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7DD-425F-4389-909C-193A2946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523-E072-4DF1-A43F-475F018B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D31-2B27-452C-BEFC-B5550505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D83-A146-41A9-AA13-14AAFD9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D17-7949-4615-9ECD-80E4553D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70A-5C58-486E-83F4-DA120E4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59B-707C-4CCC-9664-48D83534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156-5D66-4657-BAA0-4EDB9B0A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984-E34B-43AE-AD17-500FC879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85D-258D-417B-95AB-209F6DC1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374-EA0D-452B-9177-ED5B114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46B-7865-4A2D-8BC6-64831FC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097A-7BAD-4F8E-A308-3027B376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 </dc:creator>
  <dc:description/>
  <dc:language>en-US</dc:language>
  <cp:lastModifiedBy> </cp:lastModifiedBy>
  <dcterms:modified xsi:type="dcterms:W3CDTF">2010-12-15T18:26:37Z</dcterms:modified>
  <cp:revision>13</cp:revision>
  <dc:subject/>
  <dc:title>Slide 1</dc:title>
</cp:coreProperties>
</file>